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495-174E-4C1F-8272-FE297F4D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A39-C857-4157-AD78-A3687321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158-6FB5-4A05-A5A4-E581E8FE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15C-E3EA-4B72-B202-40489A8B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23B-CBBB-427E-9093-204DE84C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421-79C5-49E7-8682-919FE346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E0B-971F-41F3-B422-D3F93172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BDC-6F46-4805-9B21-A68CDAD5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04B-30AB-48DA-972C-B31208DD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556-451D-4E34-9E00-B501114A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A34-D50D-4DD4-989F-AFFA9757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7E8-AE8D-45BD-B35D-76DFFAEA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257B-ACEF-4900-9CF3-A6F26CC31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07:04:34Z</dcterms:created>
  <dc:creator>KODENSHA</dc:creator>
  <dc:description/>
  <dc:language>en-US</dc:language>
  <cp:lastModifiedBy>松本光造</cp:lastModifiedBy>
  <dcterms:modified xsi:type="dcterms:W3CDTF">2011-02-15T06:17:26Z</dcterms:modified>
  <cp:revision>182</cp:revision>
  <dc:subject/>
  <dc:title>PowerPoint プレゼンテーション</dc:title>
</cp:coreProperties>
</file>